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FD5-56FE-42E8-92B9-55842714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4D9-D172-43C4-A8E5-510EB39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94F-CBB2-4855-93F9-EFB75A9F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BEF-E1FB-43F8-A2F0-43CB7960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F97-5F64-4A88-B4C9-38F4654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6DF-D3AA-4F8F-856E-36A6ECDE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EE5-452F-4B0D-ACE3-DEEA37FA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434-A1A6-4E68-B78D-D5E4B13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4B9-C1A6-4DCB-A085-C07B7C90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A64-E1C3-4EA0-8DCA-B1AE55E1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B40-4E6A-43BF-BDDA-4EE9661C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7D9-EAF5-4C14-844B-139D3DA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B46-DCF9-4414-9E35-63D9D0547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blood from the body travels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ood from the head and neck enter the heart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vena c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blood from the rest of body enters the heart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vena c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y reach the heart they combine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at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838080"/>
            <a:ext cx="8991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heart beats blood is squeezed down in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cuspid va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beats again the blood travel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art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8991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heart beats the blood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ushed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v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tr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beats again the blood travel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tr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w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ventr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ral va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 of Blood Through the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when the heart beats again blood is pushed out of the heart to the body’s tissues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o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orta is the largest blood vessel, and has thick walls to absorb the high pressure blood is under when it leaves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orta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y the blood to the body’s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2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35:35Z</dcterms:created>
  <dc:creator>AISD</dc:creator>
  <dc:description/>
  <dc:language>en-US</dc:language>
  <cp:lastModifiedBy>AISD</cp:lastModifiedBy>
  <dcterms:modified xsi:type="dcterms:W3CDTF">2010-04-21T20:32:41Z</dcterms:modified>
  <cp:revision>3</cp:revision>
  <dc:subject/>
  <dc:title>The Anatomy of the Human Heart</dc:title>
</cp:coreProperties>
</file>